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47C-182D-430C-806F-2F3C111D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854-32CE-4A56-9BC0-29A5DBA0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49743-A6AF-40C5-AB9A-210725B4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422E7A-791A-4520-B0F7-47EBA5C8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D80E60-AD59-445F-83A3-D29F920B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E84434-E2BF-42EC-A923-DE5F8DF7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553E35-3B0B-4A03-82DB-5D05577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EB41A6-DA50-4FCD-BA3F-3068F82B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A2CE6-7CCD-40CB-A00E-C0E11A72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39DB55-2102-4B65-BFB1-3835F224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EBBFB1-1BBC-4F50-88FC-60CFDD29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F0BB3E-9702-4A81-AAE9-6D4647FC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6A0-DA84-4C30-9B91-B2C31DDE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A24B5D-58A7-4E7B-867B-0B819818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3A0469-5AE3-426B-B353-5B9C6FC4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043173-10AF-4872-BA4E-35C7C3B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AAC6F9-AE34-4EE4-B2CA-CFBB145D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E8610C-B125-44AD-9CA2-FA532C06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5C0817-0DC2-4DBE-8E60-C681F149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BC2592-36AC-4953-9539-9F842AF5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BE7D62-4689-4703-A204-05AD7D2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329452-8E05-4C2D-ACF1-77F8FE7A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1668B6-71E1-4C14-B6BC-AE11E102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863-F14F-42A0-9C8E-FE02F457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D3F86F-4911-4216-8C42-F7620E62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BFC8C0-82EB-4317-8B87-FFF646DA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85BDE5-2452-493B-BAB4-1B30CA4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A2CF5A-48AA-417B-BED0-D5DCB959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D43AB7-9D33-4142-9B47-C8068AF3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1165E7-8E8A-412B-9721-94AA2A41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23BA54-7E90-4767-B300-9A6A295E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D4CDBA-55C3-44E1-896E-4F6C966B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B21364-C455-4306-8B78-A28CA40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300CB2-FB9C-46EB-B1C0-BD05289C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EE8C-ABAC-40F5-9F06-8F85014C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AA8D2F-9A1C-48D7-BE90-217058F4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FAE9CA-4D25-4BB4-90A4-5EFB11E4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427AC4-FB7F-4DEB-A7F4-7F6A3A3F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1356-DF36-46A2-9074-DA4D7BD4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C1E7-8686-4F40-A661-9089798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8C49-954F-4532-A4DB-3BEA12F5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52AB-92C8-4B53-9F98-E4DCBBE6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2488-B561-40F9-819F-2AB4B09C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4A0B-FD4E-435E-BFBF-E95D8A5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D38-AF0C-4582-BC7B-2D6AF787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A0CE-7D69-49C9-90F6-DAC4D293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C83E-29E5-4E51-815A-2B16E194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5A9F-8C0C-48BF-B2E9-BE8F9092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1FC0-65E5-4359-805E-CBB99A9C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A9B9-6F9D-4E74-9E9D-8573FCE9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AEF0-E6E5-4CD3-85E6-10F40D50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9CC3-1668-4245-8762-EA24BA94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E59A-B9B1-4C9A-A7D0-DBB9B861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5EAE-7C2B-4E6C-B499-4EC94028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7E49-F4D9-47A0-951D-A771AD4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4EE-4C24-41DA-9D8B-AE52DBC3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5BE6-2EFB-417E-BC0E-494C4DD9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9ADC-2D90-40F1-BD6E-FC9D46C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5364-9491-4229-9928-D45951F5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6937-DFFA-48E1-B3B7-3BFF86F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8065-4743-45A0-9D81-0A4ABBF1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AB3B-50CF-42BA-B0AB-94367644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596A-9D8F-4BC7-8B9D-BD7E7F78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ABF-7239-438D-91FA-BFA78F39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8847D-39D1-42C8-9007-D220F93C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4AD-1A49-486E-A7AD-13B29FE7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26EB9-5281-4B13-80AE-BB65D4D5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B0BC7-5B6F-4D0A-A9CB-6F737C1A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A1BAF-8A57-459C-8F26-3D5C59A9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E257B-0A94-4930-866C-A05FC42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78DCB-2BC5-49A4-B8D4-8EE63E40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FC8CB-BBED-40C9-ABE7-5F36695B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ABB77-F3A3-4780-B39E-0392AB17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17580-BEFA-4715-AA67-41D11C9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CE09C-CFCB-4662-A279-D9186DFA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8F363-95D5-41AC-9C65-17E14651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A55-A693-4787-B054-84EB64A2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2A41D-119D-4BCE-94D7-AB11789C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FD463-75D8-4657-B3C3-5FF63F24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D7274-B313-49F7-A963-9214D55F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5ABA4-5E72-4DEC-8584-A4D98929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B7946-34E7-4A7E-B77C-82B117B6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CEB1F-B462-42A0-AECB-7A245053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399EC-64C8-4D2F-BF3C-A45CB828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91854-3F59-4660-9DB3-D293C61E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4F14D-677A-4778-B843-1B78414B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AFC80-2E84-45B7-9880-5F5F96D4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A12-7380-4F49-AC11-4EDBC25E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70EC1-5AC1-4863-AAE4-13D4823A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68C43-F3DC-4EB2-A295-2CA01D67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10462-1578-4ADF-B5D6-FE707571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03828-415D-4AA7-978B-3A49C739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97492-EB0B-46D5-AAB0-CE5BFD4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341B7-A808-4FF3-A144-540E24D7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1DBBE-2B36-4195-B0DB-3D63C7B9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2FB39-7F39-471E-A801-8CD2C4E3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3A27F-5869-48A6-878A-5730B59A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BF4C1-5A15-452C-AD8B-D39D53D1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C97-237E-4BE0-950D-618CF90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D7BEB-BEA4-451F-9562-708242B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1AAFA-659A-4076-B618-6B3D739F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9C82A-737D-4294-A2CF-C758EB61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9CE52-708F-4A3A-9234-909E6043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6A2B1-DEA1-4A3D-965F-70DA1B11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EF5E6-FDD8-40A4-8E64-F64FC9E1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91DE0-8D40-4677-BB9D-87FEDD7B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2E95B1-A434-47AB-A7E9-B08C3FA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69D617-38E4-4C35-8500-35643933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08E3A8-0FDE-4427-9277-108164F2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558-5753-453D-946C-5CF82BD1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DCD3BA-11C7-48D4-BD0F-AB68B4B1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7F957-58C7-4031-BE9E-F6ED3FFD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3BA97-6291-4701-8436-DAA2BFB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EF7CC4-3517-4A5E-B117-2EDEF0F5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68FCE4-615A-481E-B62B-7000580E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430BB5-6E20-434B-8686-114D9446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1BCBD-8C99-41A6-8247-FEE08F6C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1EDFC-E531-4E32-9DF9-AD16B19E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B38389-8AE4-40B4-9EE8-C617A1EA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CC3B4-967B-4E07-8184-9DB6B709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7519A-8045-4989-9120-577F792E62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6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420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21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7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50B4D-7E22-4C6E-A59D-FDD425EFA0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6"/>
          <p:cNvGrpSpPr/>
          <p:nvPr/>
        </p:nvGrpSpPr>
        <p:grpSpPr>
          <a:xfrm>
            <a:off x="7472160" y="0"/>
            <a:ext cx="44280" cy="6858000"/>
            <a:chOff x="7472160" y="0"/>
            <a:chExt cx="44280" cy="6858000"/>
          </a:xfrm>
        </p:grpSpPr>
        <p:sp>
          <p:nvSpPr>
            <p:cNvPr id="464" name="Straight Connector 7"/>
            <p:cNvSpPr/>
            <p:nvPr/>
          </p:nvSpPr>
          <p:spPr>
            <a:xfrm flipH="1">
              <a:off x="7472160" y="0"/>
              <a:ext cx="1440" cy="685800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65" name="Straight Connector 8"/>
            <p:cNvSpPr/>
            <p:nvPr/>
          </p:nvSpPr>
          <p:spPr>
            <a:xfrm flipH="1">
              <a:off x="7515000" y="0"/>
              <a:ext cx="1440" cy="6858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0"/>
          </p:nvPr>
        </p:nvSpPr>
        <p:spPr>
          <a:xfrm>
            <a:off x="755604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3ABF6-AED5-497C-83CA-E90E766C3F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1460520"/>
            <a:ext cx="9144000" cy="46080"/>
            <a:chOff x="0" y="1460520"/>
            <a:chExt cx="9144000" cy="46080"/>
          </a:xfrm>
        </p:grpSpPr>
        <p:sp>
          <p:nvSpPr>
            <p:cNvPr id="42" name="Straight Connector 7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3" name="Straight Connector 8"/>
            <p:cNvSpPr/>
            <p:nvPr/>
          </p:nvSpPr>
          <p:spPr>
            <a:xfrm>
              <a:off x="0" y="146052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4" name="Group 9"/>
          <p:cNvGrpSpPr/>
          <p:nvPr/>
        </p:nvGrpSpPr>
        <p:grpSpPr>
          <a:xfrm>
            <a:off x="0" y="4952880"/>
            <a:ext cx="9144000" cy="46080"/>
            <a:chOff x="0" y="4952880"/>
            <a:chExt cx="9144000" cy="46080"/>
          </a:xfrm>
        </p:grpSpPr>
        <p:sp>
          <p:nvSpPr>
            <p:cNvPr id="45" name="Straight Connector 10"/>
            <p:cNvSpPr/>
            <p:nvPr/>
          </p:nvSpPr>
          <p:spPr>
            <a:xfrm>
              <a:off x="0" y="499752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>
              <a:off x="0" y="495288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7" name="Oval 12" descr=""/>
          <p:cNvPicPr/>
          <p:nvPr/>
        </p:nvPicPr>
        <p:blipFill>
          <a:blip r:embed="rId3"/>
          <a:stretch/>
        </p:blipFill>
        <p:spPr>
          <a:xfrm>
            <a:off x="55440" y="55440"/>
            <a:ext cx="4559400" cy="4565880"/>
          </a:xfrm>
          <a:prstGeom prst="rect">
            <a:avLst/>
          </a:prstGeom>
          <a:ln w="0">
            <a:noFill/>
          </a:ln>
        </p:spPr>
      </p:pic>
      <p:grpSp>
        <p:nvGrpSpPr>
          <p:cNvPr id="48" name="Oval 13"/>
          <p:cNvGrpSpPr/>
          <p:nvPr/>
        </p:nvGrpSpPr>
        <p:grpSpPr>
          <a:xfrm>
            <a:off x="171360" y="103320"/>
            <a:ext cx="4218120" cy="4219560"/>
            <a:chOff x="171360" y="103320"/>
            <a:chExt cx="4218120" cy="4219560"/>
          </a:xfrm>
        </p:grpSpPr>
        <p:pic>
          <p:nvPicPr>
            <p:cNvPr id="49" name="Oval 13" descr=""/>
            <p:cNvPicPr/>
            <p:nvPr/>
          </p:nvPicPr>
          <p:blipFill>
            <a:blip r:embed="rId4"/>
            <a:stretch/>
          </p:blipFill>
          <p:spPr>
            <a:xfrm>
              <a:off x="171360" y="103320"/>
              <a:ext cx="4218120" cy="42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95240" y="727200"/>
              <a:ext cx="2970360" cy="29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1" name="Oval 14"/>
          <p:cNvGrpSpPr/>
          <p:nvPr/>
        </p:nvGrpSpPr>
        <p:grpSpPr>
          <a:xfrm>
            <a:off x="255600" y="133200"/>
            <a:ext cx="4005360" cy="4067280"/>
            <a:chOff x="255600" y="133200"/>
            <a:chExt cx="4005360" cy="4067280"/>
          </a:xfrm>
        </p:grpSpPr>
        <p:pic>
          <p:nvPicPr>
            <p:cNvPr id="52" name="Oval 14" descr=""/>
            <p:cNvPicPr/>
            <p:nvPr/>
          </p:nvPicPr>
          <p:blipFill>
            <a:blip r:embed="rId5"/>
            <a:stretch/>
          </p:blipFill>
          <p:spPr>
            <a:xfrm>
              <a:off x="255600" y="133200"/>
              <a:ext cx="400536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49240" y="733320"/>
              <a:ext cx="2819520" cy="28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4" name="Oval 15"/>
          <p:cNvGrpSpPr/>
          <p:nvPr/>
        </p:nvGrpSpPr>
        <p:grpSpPr>
          <a:xfrm>
            <a:off x="255600" y="133200"/>
            <a:ext cx="3914640" cy="3908520"/>
            <a:chOff x="255600" y="133200"/>
            <a:chExt cx="3914640" cy="3908520"/>
          </a:xfrm>
        </p:grpSpPr>
        <p:pic>
          <p:nvPicPr>
            <p:cNvPr id="55" name="Oval 15" descr=""/>
            <p:cNvPicPr/>
            <p:nvPr/>
          </p:nvPicPr>
          <p:blipFill>
            <a:blip r:embed="rId6"/>
            <a:stretch/>
          </p:blipFill>
          <p:spPr>
            <a:xfrm>
              <a:off x="255600" y="133200"/>
              <a:ext cx="3914640" cy="39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5200" y="709560"/>
              <a:ext cx="2755800" cy="27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8AEBC-3D1B-4728-A373-A330EC3024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0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99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0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97A3E-3F7F-4BC5-827F-F5DCC46E2E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0" y="1460520"/>
            <a:ext cx="9144000" cy="46080"/>
            <a:chOff x="0" y="1460520"/>
            <a:chExt cx="9144000" cy="46080"/>
          </a:xfrm>
        </p:grpSpPr>
        <p:sp>
          <p:nvSpPr>
            <p:cNvPr id="143" name="Straight Connector 7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>
              <a:off x="0" y="146052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145" name="Group 9"/>
          <p:cNvGrpSpPr/>
          <p:nvPr/>
        </p:nvGrpSpPr>
        <p:grpSpPr>
          <a:xfrm>
            <a:off x="0" y="4952880"/>
            <a:ext cx="9144000" cy="46080"/>
            <a:chOff x="0" y="4952880"/>
            <a:chExt cx="9144000" cy="46080"/>
          </a:xfrm>
        </p:grpSpPr>
        <p:sp>
          <p:nvSpPr>
            <p:cNvPr id="146" name="Straight Connector 10"/>
            <p:cNvSpPr/>
            <p:nvPr/>
          </p:nvSpPr>
          <p:spPr>
            <a:xfrm>
              <a:off x="0" y="499752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>
              <a:off x="0" y="495288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148" name="Oval 12" descr=""/>
          <p:cNvPicPr/>
          <p:nvPr/>
        </p:nvPicPr>
        <p:blipFill>
          <a:blip r:embed="rId3"/>
          <a:stretch/>
        </p:blipFill>
        <p:spPr>
          <a:xfrm>
            <a:off x="66600" y="658800"/>
            <a:ext cx="5396040" cy="5400720"/>
          </a:xfrm>
          <a:prstGeom prst="rect">
            <a:avLst/>
          </a:prstGeom>
          <a:ln w="0">
            <a:noFill/>
          </a:ln>
        </p:spPr>
      </p:pic>
      <p:grpSp>
        <p:nvGrpSpPr>
          <p:cNvPr id="149" name="Oval 13"/>
          <p:cNvGrpSpPr/>
          <p:nvPr/>
        </p:nvGrpSpPr>
        <p:grpSpPr>
          <a:xfrm>
            <a:off x="225360" y="706320"/>
            <a:ext cx="4992840" cy="4992840"/>
            <a:chOff x="225360" y="706320"/>
            <a:chExt cx="4992840" cy="4992840"/>
          </a:xfrm>
        </p:grpSpPr>
        <p:pic>
          <p:nvPicPr>
            <p:cNvPr id="150" name="Oval 13" descr=""/>
            <p:cNvPicPr/>
            <p:nvPr/>
          </p:nvPicPr>
          <p:blipFill>
            <a:blip r:embed="rId4"/>
            <a:stretch/>
          </p:blipFill>
          <p:spPr>
            <a:xfrm>
              <a:off x="225360" y="706320"/>
              <a:ext cx="4992840" cy="49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958680" y="1442880"/>
              <a:ext cx="352440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7"/>
          <p:cNvGrpSpPr/>
          <p:nvPr/>
        </p:nvGrpSpPr>
        <p:grpSpPr>
          <a:xfrm>
            <a:off x="0" y="1447920"/>
            <a:ext cx="9144000" cy="46080"/>
            <a:chOff x="0" y="1447920"/>
            <a:chExt cx="9144000" cy="46080"/>
          </a:xfrm>
        </p:grpSpPr>
        <p:sp>
          <p:nvSpPr>
            <p:cNvPr id="193" name="Straight Connector 7"/>
            <p:cNvSpPr/>
            <p:nvPr/>
          </p:nvSpPr>
          <p:spPr>
            <a:xfrm>
              <a:off x="0" y="149256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94" name="Straight Connector 8"/>
            <p:cNvSpPr/>
            <p:nvPr/>
          </p:nvSpPr>
          <p:spPr>
            <a:xfrm>
              <a:off x="0" y="144792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195" name="Group 10"/>
          <p:cNvGrpSpPr/>
          <p:nvPr/>
        </p:nvGrpSpPr>
        <p:grpSpPr>
          <a:xfrm>
            <a:off x="0" y="4940280"/>
            <a:ext cx="9144000" cy="44640"/>
            <a:chOff x="0" y="4940280"/>
            <a:chExt cx="9144000" cy="44640"/>
          </a:xfrm>
        </p:grpSpPr>
        <p:sp>
          <p:nvSpPr>
            <p:cNvPr id="196" name="Straight Connector 10"/>
            <p:cNvSpPr/>
            <p:nvPr/>
          </p:nvSpPr>
          <p:spPr>
            <a:xfrm>
              <a:off x="0" y="498348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97" name="Straight Connector 11"/>
            <p:cNvSpPr/>
            <p:nvPr/>
          </p:nvSpPr>
          <p:spPr>
            <a:xfrm>
              <a:off x="0" y="494028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2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33074-83A8-488E-BA24-453755C9EB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6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240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241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EE659-7A5F-4E0B-91CD-FA8CF62643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6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284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285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B42ED-26CA-44F3-9E99-1B445CC5E1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6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328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9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1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9F49D-699E-4BFE-90FE-DB8EA6ED1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6"/>
          <p:cNvGrpSpPr/>
          <p:nvPr/>
        </p:nvGrpSpPr>
        <p:grpSpPr>
          <a:xfrm>
            <a:off x="0" y="1179360"/>
            <a:ext cx="9144000" cy="44640"/>
            <a:chOff x="0" y="1179360"/>
            <a:chExt cx="9144000" cy="44640"/>
          </a:xfrm>
        </p:grpSpPr>
        <p:sp>
          <p:nvSpPr>
            <p:cNvPr id="372" name="Straight Connector 7"/>
            <p:cNvSpPr/>
            <p:nvPr/>
          </p:nvSpPr>
          <p:spPr>
            <a:xfrm>
              <a:off x="0" y="122256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0" y="1179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0" y="5715000"/>
            <a:ext cx="9144000" cy="46080"/>
            <a:chOff x="0" y="5715000"/>
            <a:chExt cx="9144000" cy="46080"/>
          </a:xfrm>
        </p:grpSpPr>
        <p:sp>
          <p:nvSpPr>
            <p:cNvPr id="375" name="Straight Connector 10"/>
            <p:cNvSpPr/>
            <p:nvPr/>
          </p:nvSpPr>
          <p:spPr>
            <a:xfrm>
              <a:off x="0" y="575964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6" name="Straight Connector 11"/>
            <p:cNvSpPr/>
            <p:nvPr/>
          </p:nvSpPr>
          <p:spPr>
            <a:xfrm>
              <a:off x="0" y="571500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377" name="Oval 12" descr=""/>
          <p:cNvPicPr/>
          <p:nvPr/>
        </p:nvPicPr>
        <p:blipFill>
          <a:blip r:embed="rId3"/>
          <a:stretch/>
        </p:blipFill>
        <p:spPr>
          <a:xfrm>
            <a:off x="4218120" y="1085760"/>
            <a:ext cx="4852800" cy="48578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4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A7500-64E9-41AD-BDEE-8E5373A566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14440" y="1573200"/>
            <a:ext cx="491004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SUMMERTIME-SEASONS 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114440" y="3711240"/>
            <a:ext cx="49100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ADAPTED FROM BLUES SONG FOR English Learners </a:t>
            </a:r>
            <a:endParaRPr b="1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By KATY SALGADO</a:t>
            </a:r>
            <a:endParaRPr b="1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SUMMERTIME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UMMERTIME AND THE LIVING IS EAS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ON VACATION AND THE BEACHES ARE PACKED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 GRAB A TOWEL AND A SWIMSUIT AND SUNSCREEN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ND HUSH LITTLE BABY, DON’T CRY 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5626080" y="391788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AUTUMN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ALL IS HERE AND THE LEAVES ARE FALLING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AN DIEGO CAN STILL BE HOT AND DR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CHOOL BEGINS AND THE DAYS WILL GET SHORTER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 HUSH LITTLE BABY, DON’T YOU CRY.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6413400" y="3728880"/>
            <a:ext cx="22734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WINTER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INTERTIME AND THE WEATHER IS COLDER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GO TO THE MOUNTAINS IF YOU WANT TO SEE SNOW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AKE A COAT AND LET’S DRINK SOME HOT CHOCOLATE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ND HUSH LITTLE BAB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DON’T YOU CR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4356000" y="4067280"/>
            <a:ext cx="3416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SPRING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PRING IS HERE AND THE FLOWERS ARE BLOOMING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BIRDS ARE CHIRPING AND THEY’RE MAKING THEIR NESTS.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RAIN STILL FALLS AND THE CHICKS ARE HATCHING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 HUSH LITTLE BAB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DON’T YOU CRY.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4559400" y="3952800"/>
            <a:ext cx="3314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13:20Z</dcterms:created>
  <dc:creator>City School</dc:creator>
  <dc:description/>
  <dc:language>en-US</dc:language>
  <cp:lastModifiedBy>122790</cp:lastModifiedBy>
  <dcterms:modified xsi:type="dcterms:W3CDTF">2011-07-07T20:29:51Z</dcterms:modified>
  <cp:revision>3</cp:revision>
  <dc:subject/>
  <dc:title>SUMMERTIME-SEASONS</dc:title>
</cp:coreProperties>
</file>